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peopleooo.wav" ContentType="audio/x-wav"/>
  <Override PartName="/ppt/media/zipup202.wav" ContentType="audio/x-wav"/>
  <Override PartName="/ppt/media/children%20wow.wav" ContentType="audio/x-wav"/>
  <Override PartName="/ppt/media/zipby102.wav" ContentType="audio/x-wav"/>
  <Override PartName="/ppt/media/image2.gif" ContentType="image/gif"/>
  <Override PartName="/ppt/media/zipdn102.wav" ContentType="audio/x-wav"/>
  <Override PartName="/ppt/media/PROJCTOR.WAV" ContentType="audio/x-wav"/>
  <Override PartName="/ppt/media/zapbig0g.wav" ContentType="audio/x-wav"/>
  <Override PartName="/ppt/media/camera.wav" ContentType="audio/x-wav"/>
  <Override PartName="/ppt/media/highchime.wav" ContentType="audio/x-wav"/>
  <Override PartName="/ppt/media/partyhorn.wav" ContentType="audio/x-wav"/>
  <Override PartName="/ppt/media/bserie06.wav" ContentType="audio/x-wav"/>
  <Override PartName="/ppt/media/caralarmoff.wav" ContentType="audio/x-wav"/>
  <Override PartName="/ppt/media/hzipup01.wav" ContentType="audio/x-wav"/>
  <Override PartName="/ppt/media/gla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2FC-AD2C-4010-A0AD-4DA9C586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B76-AB89-47DF-933A-EC56523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B87-A1D7-43E0-B239-062BAE98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64D-B8AC-4799-ADE4-1804CA23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43B-FEBD-4147-BCF4-1981A5E3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CF7-CCA1-48ED-942D-8F2F6DC8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13A-FA55-4816-ABFC-27A5F701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30F-91D6-4627-A542-B22EA7C6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99F-BEFA-42E2-A772-404645A7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0D0-5882-4688-9446-DA6FC422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224-3B52-4FC1-96D5-4B8F6C6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92E2-F53E-413A-85B4-76185E6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50F-FF14-4EFE-AE1D-3AFF9D007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ipdn102.wav"/><Relationship Id="rId2" Type="http://schemas.openxmlformats.org/officeDocument/2006/relationships/audio" Target="../media/PROJCTOR.WAV"/><Relationship Id="rId3" Type="http://schemas.openxmlformats.org/officeDocument/2006/relationships/audio" Target="../media/highchime.wav"/><Relationship Id="rId4" Type="http://schemas.openxmlformats.org/officeDocument/2006/relationships/audio" Target="../media/partyhorn.wav"/><Relationship Id="rId5" Type="http://schemas.openxmlformats.org/officeDocument/2006/relationships/audio" Target="../media/partyhorn.wav"/><Relationship Id="rId6" Type="http://schemas.openxmlformats.org/officeDocument/2006/relationships/audio" Target="../media/bserie06.wav"/><Relationship Id="rId7" Type="http://schemas.openxmlformats.org/officeDocument/2006/relationships/audio" Target="../media/caralarmoff.wav"/><Relationship Id="rId8" Type="http://schemas.openxmlformats.org/officeDocument/2006/relationships/audio" Target="../media/caralarmoff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audio" Target="../media/zapbig0g.wav"/><Relationship Id="rId4" Type="http://schemas.openxmlformats.org/officeDocument/2006/relationships/audio" Target="../media/glass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bserie06.wav"/><Relationship Id="rId8" Type="http://schemas.openxmlformats.org/officeDocument/2006/relationships/audio" Target="../media/bserie06.wav"/><Relationship Id="rId9" Type="http://schemas.openxmlformats.org/officeDocument/2006/relationships/audio" Target="../media/zipup202.wav"/><Relationship Id="rId10" Type="http://schemas.openxmlformats.org/officeDocument/2006/relationships/audio" Target="../media/hzipup01.wav"/><Relationship Id="rId11" Type="http://schemas.openxmlformats.org/officeDocument/2006/relationships/audio" Target="../media/peopleooo.wav"/><Relationship Id="rId12" Type="http://schemas.openxmlformats.org/officeDocument/2006/relationships/audio" Target="../media/bserie06.wav"/><Relationship Id="rId13" Type="http://schemas.openxmlformats.org/officeDocument/2006/relationships/audio" Target="../media/bserie06.wav"/><Relationship Id="rId14" Type="http://schemas.openxmlformats.org/officeDocument/2006/relationships/audio" Target="../media/zipup202.wav"/><Relationship Id="rId15" Type="http://schemas.openxmlformats.org/officeDocument/2006/relationships/audio" Target="../media/hzipup01.wav"/><Relationship Id="rId16" Type="http://schemas.openxmlformats.org/officeDocument/2006/relationships/audio" Target="../media/peopleooo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hzipup01.wav"/><Relationship Id="rId5" Type="http://schemas.openxmlformats.org/officeDocument/2006/relationships/audio" Target="../media/caralarmoff.wav"/><Relationship Id="rId6" Type="http://schemas.openxmlformats.org/officeDocument/2006/relationships/audio" Target="../media/caralarmoff.wav"/><Relationship Id="rId7" Type="http://schemas.openxmlformats.org/officeDocument/2006/relationships/audio" Target="../media/caralarmoff.wav"/><Relationship Id="rId8" Type="http://schemas.openxmlformats.org/officeDocument/2006/relationships/audio" Target="../media/bserie06.wav"/><Relationship Id="rId9" Type="http://schemas.openxmlformats.org/officeDocument/2006/relationships/audio" Target="../media/bserie06.wav"/><Relationship Id="rId10" Type="http://schemas.openxmlformats.org/officeDocument/2006/relationships/audio" Target="../media/bserie06.wav"/><Relationship Id="rId11" Type="http://schemas.openxmlformats.org/officeDocument/2006/relationships/audio" Target="../media/bserie06.wav"/><Relationship Id="rId12" Type="http://schemas.openxmlformats.org/officeDocument/2006/relationships/audio" Target="../media/zipup202.wav"/><Relationship Id="rId13" Type="http://schemas.openxmlformats.org/officeDocument/2006/relationships/audio" Target="../media/zipup202.wav"/><Relationship Id="rId14" Type="http://schemas.openxmlformats.org/officeDocument/2006/relationships/audio" Target="../media/zipup202.wav"/><Relationship Id="rId15" Type="http://schemas.openxmlformats.org/officeDocument/2006/relationships/audio" Target="../media/hzipup01.wav"/><Relationship Id="rId16" Type="http://schemas.openxmlformats.org/officeDocument/2006/relationships/audio" Target="../media/peopleooo.wav"/><Relationship Id="rId17" Type="http://schemas.openxmlformats.org/officeDocument/2006/relationships/audio" Target="../media/hzipup01.wav"/><Relationship Id="rId18" Type="http://schemas.openxmlformats.org/officeDocument/2006/relationships/audio" Target="../media/peopleooo.wav"/><Relationship Id="rId19" Type="http://schemas.openxmlformats.org/officeDocument/2006/relationships/audio" Target="../media/peopleooo.wav"/><Relationship Id="rId20" Type="http://schemas.openxmlformats.org/officeDocument/2006/relationships/audio" Target="../media/bserie06.wav"/><Relationship Id="rId21" Type="http://schemas.openxmlformats.org/officeDocument/2006/relationships/audio" Target="../media/peopleooo.wav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partyhorn.wav"/><Relationship Id="rId3" Type="http://schemas.openxmlformats.org/officeDocument/2006/relationships/audio" Target="../media/glass.wav"/><Relationship Id="rId4" Type="http://schemas.openxmlformats.org/officeDocument/2006/relationships/audio" Target="../media/caralarmoff.wav"/><Relationship Id="rId5" Type="http://schemas.openxmlformats.org/officeDocument/2006/relationships/audio" Target="../media/caralarmoff.wav"/><Relationship Id="rId6" Type="http://schemas.openxmlformats.org/officeDocument/2006/relationships/audio" Target="../media/bserie06.wav"/><Relationship Id="rId7" Type="http://schemas.openxmlformats.org/officeDocument/2006/relationships/audio" Target="../media/bserie06.wav"/><Relationship Id="rId8" Type="http://schemas.openxmlformats.org/officeDocument/2006/relationships/audio" Target="../media/zipup202.wav"/><Relationship Id="rId9" Type="http://schemas.openxmlformats.org/officeDocument/2006/relationships/audio" Target="../media/hzipup01.wav"/><Relationship Id="rId10" Type="http://schemas.openxmlformats.org/officeDocument/2006/relationships/audio" Target="../media/peopleooo.wav"/><Relationship Id="rId11" Type="http://schemas.openxmlformats.org/officeDocument/2006/relationships/audio" Target="../media/bserie06.wav"/><Relationship Id="rId12" Type="http://schemas.openxmlformats.org/officeDocument/2006/relationships/audio" Target="../media/bserie06.wav"/><Relationship Id="rId13" Type="http://schemas.openxmlformats.org/officeDocument/2006/relationships/audio" Target="../media/zipup202.wav"/><Relationship Id="rId14" Type="http://schemas.openxmlformats.org/officeDocument/2006/relationships/audio" Target="../media/hzipup01.wav"/><Relationship Id="rId15" Type="http://schemas.openxmlformats.org/officeDocument/2006/relationships/audio" Target="../media/peopleooo.wav"/><Relationship Id="rId16" Type="http://schemas.openxmlformats.org/officeDocument/2006/relationships/audio" Target="../media/zipby102.wav"/><Relationship Id="rId17" Type="http://schemas.openxmlformats.org/officeDocument/2006/relationships/audio" Target="../media/zipby102.wav"/><Relationship Id="rId18" Type="http://schemas.openxmlformats.org/officeDocument/2006/relationships/audio" Target="../media/caralarmoff.wav"/><Relationship Id="rId19" Type="http://schemas.openxmlformats.org/officeDocument/2006/relationships/audio" Target="../media/caralarmoff.wav"/><Relationship Id="rId20" Type="http://schemas.openxmlformats.org/officeDocument/2006/relationships/audio" Target="../media/caralarmoff.wav"/><Relationship Id="rId21" Type="http://schemas.openxmlformats.org/officeDocument/2006/relationships/audio" Target="../media/children%20wow.wav"/><Relationship Id="rId22" Type="http://schemas.openxmlformats.org/officeDocument/2006/relationships/audio" Target="../media/caralarmoff.wav"/><Relationship Id="rId23" Type="http://schemas.openxmlformats.org/officeDocument/2006/relationships/audio" Target="../media/caralarmoff.wav"/><Relationship Id="rId24" Type="http://schemas.openxmlformats.org/officeDocument/2006/relationships/audio" Target="../media/caralarmoff.wav"/><Relationship Id="rId25" Type="http://schemas.openxmlformats.org/officeDocument/2006/relationships/audio" Target="../media/children%20wow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01760"/>
            <a:ext cx="8686800" cy="5302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rtions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2880" y="1382760"/>
            <a:ext cx="24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98480" y="4562640"/>
                <a:ext cx="184968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30840" y="5021280"/>
                <a:ext cx="2241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538200" y="140184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- an equation that states that two ratios are eq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46840" y="1833480"/>
                <a:ext cx="184752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39760" y="3494160"/>
            <a:ext cx="51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 Product Proper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760" y="3475080"/>
            <a:ext cx="87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- the product of the extremes equals the product of the me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510228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14840" y="5141880"/>
            <a:ext cx="10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7040" y="1909800"/>
                <a:ext cx="24433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41560" y="3552840"/>
                <a:ext cx="8395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20760" y="4589640"/>
                <a:ext cx="61596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876320" y="4248000"/>
                <a:ext cx="2295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9800" y="3649680"/>
                <a:ext cx="1398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098960" y="4417920"/>
                <a:ext cx="1398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585800" y="2352600"/>
            <a:ext cx="74628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528920" y="2297160"/>
            <a:ext cx="839520" cy="6904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55480" y="1927080"/>
                <a:ext cx="38815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41360" y="3416400"/>
                <a:ext cx="22399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9080" y="3381480"/>
            <a:ext cx="2796840" cy="94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47840" y="4235400"/>
                <a:ext cx="223812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33760" y="4238640"/>
                <a:ext cx="26859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0" y="4816440"/>
                <a:ext cx="1455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664000" y="4821120"/>
                <a:ext cx="1457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04720" y="557856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838160" y="5492880"/>
                <a:ext cx="839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24040" y="5497560"/>
                <a:ext cx="1511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025880" y="4808520"/>
                <a:ext cx="12873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51080" y="4795920"/>
                <a:ext cx="1288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 flipH="1">
            <a:off x="502920" y="4422600"/>
            <a:ext cx="80316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294080" y="4406760"/>
            <a:ext cx="803520" cy="1063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0400" y="582624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116680" y="5668920"/>
                <a:ext cx="13460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866960" y="619776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68800" y="6200640"/>
            <a:ext cx="8204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41560" y="614520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444840" y="612936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351160" y="2425680"/>
            <a:ext cx="113832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08160" y="2388960"/>
            <a:ext cx="1063800" cy="61596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95360" y="1636560"/>
                <a:ext cx="39304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77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Cross Product Property and Check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33440" y="3157560"/>
                <a:ext cx="3416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lve the proportion and check for extraneous solu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786120" y="3095640"/>
                <a:ext cx="2909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855800" y="3921120"/>
                <a:ext cx="173520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763800" y="3924360"/>
                <a:ext cx="274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24080" y="4483080"/>
                <a:ext cx="13446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00400" y="4470480"/>
                <a:ext cx="1344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662120" y="5319720"/>
            <a:ext cx="4757760" cy="0"/>
          </a:xfrm>
          <a:prstGeom prst="line">
            <a:avLst/>
          </a:prstGeom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219480" y="5318280"/>
                <a:ext cx="392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98720" y="5202360"/>
                <a:ext cx="1398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443560" y="4568760"/>
                <a:ext cx="10634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83000" y="4575240"/>
                <a:ext cx="10652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 flipH="1">
            <a:off x="1957320" y="4146480"/>
            <a:ext cx="525600" cy="1006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451120" y="4148280"/>
            <a:ext cx="803160" cy="106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4440" y="2182680"/>
            <a:ext cx="1138320" cy="59688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71800" y="2145960"/>
            <a:ext cx="1063440" cy="61596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76640" y="6242040"/>
                <a:ext cx="6159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59120" y="5877000"/>
                <a:ext cx="18478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757840" y="6046920"/>
                <a:ext cx="13986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75160" y="2467080"/>
                <a:ext cx="4221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is extraneou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05760" y="4908600"/>
                <a:ext cx="1523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eopleoo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ing and Using a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120" y="11635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4.  You are making a scale model of a sailboat. The boat is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20 feet long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Baskerville Old Face"/>
              </a:rPr>
              <a:t>15 feet high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. Your scale model will be </a:t>
            </a:r>
            <a:r>
              <a:rPr b="0" lang="en-US" sz="3200" spc="-1" strike="noStrike">
                <a:solidFill>
                  <a:srgbClr val="3333cc"/>
                </a:solidFill>
                <a:latin typeface="Baskerville Old Face"/>
              </a:rPr>
              <a:t>18 inches high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. How long will it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ailboat_front_hg_wht" descr=""/>
          <p:cNvPicPr/>
          <p:nvPr/>
        </p:nvPicPr>
        <p:blipFill>
          <a:blip r:embed="rId1"/>
          <a:stretch/>
        </p:blipFill>
        <p:spPr>
          <a:xfrm>
            <a:off x="5253120" y="2986200"/>
            <a:ext cx="3890880" cy="389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47800" y="2862360"/>
                <a:ext cx="86220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2760" y="4356000"/>
                <a:ext cx="12319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494080" y="4341960"/>
                <a:ext cx="17352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89000" y="5904000"/>
                <a:ext cx="6159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13160" y="5773680"/>
                <a:ext cx="14014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62120" y="506088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63960" y="5064120"/>
            <a:ext cx="82080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25480" y="4981680"/>
                <a:ext cx="7844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127320" y="4965840"/>
                <a:ext cx="785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262080" y="2930400"/>
            <a:ext cx="1604880" cy="581400"/>
            <a:chOff x="262080" y="2930400"/>
            <a:chExt cx="1604880" cy="581400"/>
          </a:xfrm>
        </p:grpSpPr>
        <p:sp>
          <p:nvSpPr>
            <p:cNvPr id="127" name=""/>
            <p:cNvSpPr/>
            <p:nvPr/>
          </p:nvSpPr>
          <p:spPr>
            <a:xfrm>
              <a:off x="262080" y="2930400"/>
              <a:ext cx="12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99"/>
                  </a:solidFill>
                  <a:latin typeface="Times New Roman"/>
                </a:rPr>
                <a:t>leng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44600" y="322884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2080" y="3660840"/>
            <a:ext cx="1604880" cy="581400"/>
            <a:chOff x="262080" y="3660840"/>
            <a:chExt cx="1604880" cy="581400"/>
          </a:xfrm>
        </p:grpSpPr>
        <p:sp>
          <p:nvSpPr>
            <p:cNvPr id="130" name=""/>
            <p:cNvSpPr/>
            <p:nvPr/>
          </p:nvSpPr>
          <p:spPr>
            <a:xfrm>
              <a:off x="262080" y="3660840"/>
              <a:ext cx="123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99"/>
                  </a:solidFill>
                  <a:latin typeface="Times New Roman"/>
                </a:rPr>
                <a:t>heigh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44600" y="3959280"/>
              <a:ext cx="52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597040" y="2854440"/>
                <a:ext cx="148428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63760" y="3100320"/>
                <a:ext cx="527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33880" y="3666960"/>
                <a:ext cx="66996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500200" y="3340080"/>
            <a:ext cx="801720" cy="56052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25680" y="3303360"/>
            <a:ext cx="895320" cy="577800"/>
          </a:xfrm>
          <a:prstGeom prst="line">
            <a:avLst/>
          </a:prstGeom>
          <a:ln w="5724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17880" y="5807160"/>
            <a:ext cx="12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arty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serie06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up2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zipup0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eopleooo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by102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ldren%20w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alarmoff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ldren%20w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1.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.skelton</cp:lastModifiedBy>
  <dcterms:modified xsi:type="dcterms:W3CDTF">2005-02-22T15:02:37Z</dcterms:modified>
  <cp:revision>8</cp:revision>
  <dc:subject/>
  <dc:title>Slide 1</dc:title>
</cp:coreProperties>
</file>